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9106-5A14-483D-8D59-A6B8697D97D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1EC3-6722-4855-AC45-FBAE81B6D558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2695-3250-46FD-B4D1-8E9B4ECD258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96B5-A028-4ABE-8FFB-D87094ED703D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C961-3287-4369-9FFC-967DB92BDC1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66584-02A8-44C1-87D2-61CE73F6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D2E94-74F9-4CFF-B3D4-63654052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B8E5B-9313-47EB-A9DA-03EB9BE9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6AB17-E766-4065-AD62-FC92446D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67796-2211-4B15-978E-ED3D9EC0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F8359-DA57-4970-A08C-205C8932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A8F66-1254-4C79-87E9-454D61DE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13EEA-5E3D-41DC-B118-35734622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8DFFB-96E6-45EE-BF84-878249F3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648AA-58AE-49E3-BEAE-30E1FE19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F737E-C22D-40CB-B77F-397152CC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416A8-DB69-4B7D-B4F4-B136541D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E7CB-542F-424F-AE9B-9ED3C7A88DB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dii</cp:lastModifiedBy>
  <dcterms:modified xsi:type="dcterms:W3CDTF">2010-08-20T13:39:08Z</dcterms:modified>
  <cp:revision>9</cp:revision>
  <dc:subject/>
  <dc:title>Fuentes de Oportunidades</dc:title>
</cp:coreProperties>
</file>